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61E7-142E-405C-A27A-BFFE4029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90C-3BFD-4C76-A24D-9F2E5691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FF94-043B-402F-8C33-E1B4B8ED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3FE-1392-43F1-885E-0E0691E3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4C1-6788-47D3-864A-DC21212D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5CD-2BCA-4DD2-8BD8-8E7EC338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194-093B-4AE3-94A5-36154E07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A7E7-6976-4AAB-870B-95A6E611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A24-2F6D-4746-BE02-C19636A1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70C-7B38-431F-B474-FF799C29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7466-ED1F-4439-9430-DB5F4473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60E8-B868-4717-A5BF-8171D98C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1A32-827F-4C24-A022-954F0009D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12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685800" y="1752480"/>
            <a:ext cx="8001000" cy="4179960"/>
            <a:chOff x="685800" y="1752480"/>
            <a:chExt cx="8001000" cy="4179960"/>
          </a:xfrm>
        </p:grpSpPr>
        <p:sp>
          <p:nvSpPr>
            <p:cNvPr id="43" name=""/>
            <p:cNvSpPr/>
            <p:nvPr/>
          </p:nvSpPr>
          <p:spPr>
            <a:xfrm>
              <a:off x="6892920" y="5121360"/>
              <a:ext cx="1793880" cy="49212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SI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73800" y="5121360"/>
              <a:ext cx="141912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100 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22880" y="5121360"/>
              <a:ext cx="115092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6 ME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8720" y="5121360"/>
              <a:ext cx="14241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CA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04920" y="5121360"/>
              <a:ext cx="7938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12-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" y="5121360"/>
              <a:ext cx="1419120" cy="49212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hacecilier 2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92920" y="1752480"/>
              <a:ext cx="1793880" cy="48744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giudizio + degli autori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73800" y="1752480"/>
              <a:ext cx="14191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Max d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22880" y="1752480"/>
              <a:ext cx="11509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Dur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8720" y="1752480"/>
              <a:ext cx="14241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llerge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04920" y="1752480"/>
              <a:ext cx="79380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Range eta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" y="1752480"/>
              <a:ext cx="1419120" cy="48744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UT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92920" y="5613480"/>
              <a:ext cx="1793880" cy="31896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3800" y="5613480"/>
              <a:ext cx="14191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200 ST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22880" y="5613480"/>
              <a:ext cx="11509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8720" y="5613480"/>
              <a:ext cx="1424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CA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04920" y="5613480"/>
              <a:ext cx="7938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5800" y="5613480"/>
              <a:ext cx="1419120" cy="31896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Marcucci 2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92920" y="4572000"/>
              <a:ext cx="1793880" cy="54936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73800" y="4572000"/>
              <a:ext cx="14191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1000 A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22880" y="4572000"/>
              <a:ext cx="11509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3 e ½ ME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8720" y="4572000"/>
              <a:ext cx="14241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GRAMINAC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04920" y="4572000"/>
              <a:ext cx="793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4-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5800" y="4572000"/>
              <a:ext cx="1419120" cy="54936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Caffarelli 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92920" y="4162320"/>
              <a:ext cx="1793880" cy="40968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73800" y="4162320"/>
              <a:ext cx="14191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2.5 B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22880" y="4162320"/>
              <a:ext cx="11509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24 ME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98720" y="4162320"/>
              <a:ext cx="14241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CA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04920" y="4162320"/>
              <a:ext cx="7938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8-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5800" y="4162320"/>
              <a:ext cx="1419120" cy="40968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Pajno 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92920" y="3841920"/>
              <a:ext cx="1793880" cy="32040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73800" y="3841920"/>
              <a:ext cx="1419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2.5 B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22880" y="3841920"/>
              <a:ext cx="1150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9 ME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8720" y="3841920"/>
              <a:ext cx="1424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PARIETA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04920" y="3841920"/>
              <a:ext cx="79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32 +/- 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3841920"/>
              <a:ext cx="1419120" cy="32040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Purello 19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92920" y="3521160"/>
              <a:ext cx="1793880" cy="32076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73800" y="3521160"/>
              <a:ext cx="141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100 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22880" y="3521160"/>
              <a:ext cx="11509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12 ME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98720" y="3521160"/>
              <a:ext cx="1424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CA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04920" y="3521160"/>
              <a:ext cx="793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18-4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800" y="3521160"/>
              <a:ext cx="1419120" cy="32076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Mungan 19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92920" y="3197160"/>
              <a:ext cx="1793880" cy="32400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SI Q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73800" y="3197160"/>
              <a:ext cx="14191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300 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22880" y="3197160"/>
              <a:ext cx="11509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25 ME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98720" y="3197160"/>
              <a:ext cx="14241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CA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04920" y="3197160"/>
              <a:ext cx="7938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7-4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" y="3197160"/>
              <a:ext cx="1419120" cy="32400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Bousquet 19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92920" y="2878200"/>
              <a:ext cx="1793880" cy="31896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73800" y="2878200"/>
              <a:ext cx="14191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300 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22880" y="2878200"/>
              <a:ext cx="11509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2 X 7 ME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98720" y="2878200"/>
              <a:ext cx="1424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OLIV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4920" y="2878200"/>
              <a:ext cx="7938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7-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5800" y="2878200"/>
              <a:ext cx="1419120" cy="31896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Vourdas 19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92920" y="2557440"/>
              <a:ext cx="1793880" cy="32076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3800" y="2557440"/>
              <a:ext cx="141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22880" y="2557440"/>
              <a:ext cx="11509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12 ME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8720" y="2557440"/>
              <a:ext cx="14241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CA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04920" y="2557440"/>
              <a:ext cx="793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6-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800" y="2557440"/>
              <a:ext cx="1419120" cy="32076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Hirsch 19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92920" y="2239920"/>
              <a:ext cx="1793880" cy="31752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73800" y="2239920"/>
              <a:ext cx="14191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375 ST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22880" y="2239920"/>
              <a:ext cx="1150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18 ME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8720" y="2239920"/>
              <a:ext cx="14241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CA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04920" y="2239920"/>
              <a:ext cx="793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5-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" y="2239920"/>
              <a:ext cx="1419120" cy="31752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Tari 199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5800" y="255744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5800" y="287820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5800" y="319716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5800" y="352116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5800" y="384192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5800" y="416232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" y="457200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512136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5800" y="5932440"/>
              <a:ext cx="8001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5800" y="1752480"/>
              <a:ext cx="0" cy="4179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04920" y="1752480"/>
              <a:ext cx="0" cy="417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98720" y="1752480"/>
              <a:ext cx="0" cy="417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22880" y="1752480"/>
              <a:ext cx="0" cy="417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3800" y="1752480"/>
              <a:ext cx="0" cy="417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92920" y="1752480"/>
              <a:ext cx="0" cy="417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86800" y="1752480"/>
              <a:ext cx="0" cy="4179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73800" y="1752480"/>
              <a:ext cx="141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1752480"/>
              <a:ext cx="4788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92920" y="1752480"/>
              <a:ext cx="1793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800" y="223992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800" y="561348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945880" y="552600"/>
            <a:ext cx="3234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LIT NELL’AS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 LAVORI DB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81080"/>
            <a:ext cx="61722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Allergeni radiomarcati sono stati ritrovati dopo 48 ore nel cavo orale :quindi gli allergeni non sono degradati dalla saliva  ed agirebbero con un meccanismo “mucosa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019920"/>
            <a:ext cx="67057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Bagnasco 1997, Passalacqua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Unictgif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907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TS e ulteriori sensibilizzazi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5200" y="990720"/>
            <a:ext cx="4191480" cy="2226960"/>
          </a:xfrm>
          <a:prstGeom prst="rect">
            <a:avLst/>
          </a:prstGeom>
          <a:solidFill>
            <a:srgbClr val="efe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T with a standardized DP extract.V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pecific IT prevents the onset of ne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nsitizations in childre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s Roches A. et alt (J.Bousqu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J.A.C.I.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162920" y="1676520"/>
            <a:ext cx="1676160" cy="1460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355760" y="5089680"/>
            <a:ext cx="6645240" cy="1617120"/>
          </a:xfrm>
          <a:prstGeom prst="rect">
            <a:avLst/>
          </a:prstGeom>
          <a:solidFill>
            <a:srgbClr val="efe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RUPPO       22     10    6   4    2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.T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RUPPO       22      0   12   8    6   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DI CONT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96960" y="4579920"/>
            <a:ext cx="4604760" cy="397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.          E1  E2   M6  Gm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5520" y="4051440"/>
            <a:ext cx="2745360" cy="305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N.S.= NON SENSIBILIZZ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0160" y="5019840"/>
            <a:ext cx="520920" cy="444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6480" y="5934240"/>
            <a:ext cx="520560" cy="444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4419720"/>
            <a:ext cx="2819160" cy="16761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4267080"/>
            <a:ext cx="990720" cy="762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11560" y="360036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kton"/>
              </a:rPr>
              <a:t>SCIT PER 3 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715000" y="3886200"/>
            <a:ext cx="2362320" cy="137160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  <a:effectLst>
            <a:outerShdw dist="17819" dir="2700000" blurRad="0" rotWithShape="0">
              <a:srgbClr val="00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8088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ahoma"/>
              </a:rPr>
              <a:t>Previene ulteriori sensibilizzazi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81240" y="1295280"/>
            <a:ext cx="6080040" cy="2226960"/>
          </a:xfrm>
          <a:prstGeom prst="rect">
            <a:avLst/>
          </a:prstGeom>
          <a:solidFill>
            <a:srgbClr val="efe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evention of new sensitizations in asthmetic child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onosensitized to house dust mite by ITS. A six y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ollow up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GB Pajno , et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linical Exp All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341360" y="3828960"/>
            <a:ext cx="3382920" cy="2322720"/>
            <a:chOff x="1341360" y="3828960"/>
            <a:chExt cx="3382920" cy="2322720"/>
          </a:xfrm>
        </p:grpSpPr>
        <p:sp>
          <p:nvSpPr>
            <p:cNvPr id="149" name=""/>
            <p:cNvSpPr/>
            <p:nvPr/>
          </p:nvSpPr>
          <p:spPr>
            <a:xfrm>
              <a:off x="3033720" y="3828960"/>
              <a:ext cx="1690560" cy="824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No ulteriori sensibilizzazioni dopo 6 an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41360" y="3828960"/>
              <a:ext cx="1692360" cy="824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Grupp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33720" y="5402160"/>
              <a:ext cx="1690560" cy="749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3% 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41360" y="5402160"/>
              <a:ext cx="1692360" cy="749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63 paz. no 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33720" y="4653000"/>
              <a:ext cx="1690560" cy="7491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75% 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41360" y="4653000"/>
              <a:ext cx="1692360" cy="749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75 paz. 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41360" y="3828960"/>
              <a:ext cx="338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41360" y="5402160"/>
              <a:ext cx="33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41360" y="6151680"/>
              <a:ext cx="338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41360" y="3828960"/>
              <a:ext cx="0" cy="2322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33720" y="3828960"/>
              <a:ext cx="0" cy="232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24280" y="3828960"/>
              <a:ext cx="0" cy="2322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41360" y="4653000"/>
              <a:ext cx="33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967840" y="624852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* dato signific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9440" y="541008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TS per 3 an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2133720"/>
            <a:ext cx="1676160" cy="1460520"/>
          </a:xfrm>
          <a:prstGeom prst="rect">
            <a:avLst/>
          </a:prstGeom>
          <a:ln w="0">
            <a:noFill/>
          </a:ln>
        </p:spPr>
      </p:pic>
      <p:pic>
        <p:nvPicPr>
          <p:cNvPr id="165" name="msotw9_temp0" descr=""/>
          <p:cNvPicPr/>
          <p:nvPr/>
        </p:nvPicPr>
        <p:blipFill>
          <a:blip r:embed="rId2"/>
          <a:stretch/>
        </p:blipFill>
        <p:spPr>
          <a:xfrm>
            <a:off x="6095880" y="2362320"/>
            <a:ext cx="188604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98200" y="990720"/>
            <a:ext cx="6662160" cy="1617120"/>
          </a:xfrm>
          <a:prstGeom prst="rect">
            <a:avLst/>
          </a:prstGeom>
          <a:solidFill>
            <a:srgbClr val="efe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evention of new sensitizations in monosensitized sub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ubmitted to ITS or not.A retrospectiv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urello-D’Ambrosio F et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linical Exp Allergy Aug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19320" y="3124080"/>
            <a:ext cx="6764040" cy="3256200"/>
            <a:chOff x="1219320" y="3124080"/>
            <a:chExt cx="6764040" cy="3256200"/>
          </a:xfrm>
        </p:grpSpPr>
        <p:sp>
          <p:nvSpPr>
            <p:cNvPr id="168" name=""/>
            <p:cNvSpPr/>
            <p:nvPr/>
          </p:nvSpPr>
          <p:spPr>
            <a:xfrm>
              <a:off x="6292800" y="5457960"/>
              <a:ext cx="1690560" cy="92232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umentate del 23,87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92800" y="4535640"/>
              <a:ext cx="1690560" cy="92232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iminuite del 24,1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92800" y="3124080"/>
              <a:ext cx="1690560" cy="141156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IgE specifi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02240" y="5457960"/>
              <a:ext cx="1690560" cy="92232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76.77% 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02240" y="4535640"/>
              <a:ext cx="1690560" cy="92232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6.9% 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02240" y="3124080"/>
              <a:ext cx="1690560" cy="141156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lteriori sensibilizzazioni dopo 7 an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11320" y="3124080"/>
              <a:ext cx="1690920" cy="141156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lteriori sensibilizzazioni dopo 4 an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19320" y="3124080"/>
              <a:ext cx="1692000" cy="1411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Grupp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11320" y="5457960"/>
              <a:ext cx="1690920" cy="92232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68,03% 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19320" y="5457960"/>
              <a:ext cx="1692000" cy="922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1214 paz. no 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11320" y="4535640"/>
              <a:ext cx="1690920" cy="922320"/>
            </a:xfrm>
            <a:prstGeom prst="rect">
              <a:avLst/>
            </a:prstGeom>
            <a:solidFill>
              <a:srgbClr val="ef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3,75% 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19320" y="4535640"/>
              <a:ext cx="1692000" cy="922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7182  paz. 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19320" y="3124080"/>
              <a:ext cx="6764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19320" y="5457960"/>
              <a:ext cx="676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19320" y="6380280"/>
              <a:ext cx="6764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19320" y="3124080"/>
              <a:ext cx="0" cy="3256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11320" y="3124080"/>
              <a:ext cx="0" cy="325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83360" y="3124080"/>
              <a:ext cx="0" cy="3256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19320" y="4535640"/>
              <a:ext cx="676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02240" y="3124080"/>
              <a:ext cx="0" cy="325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92800" y="3124080"/>
              <a:ext cx="0" cy="325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9" name="msotw9_temp0" descr=""/>
          <p:cNvPicPr/>
          <p:nvPr/>
        </p:nvPicPr>
        <p:blipFill>
          <a:blip r:embed="rId1"/>
          <a:stretch/>
        </p:blipFill>
        <p:spPr>
          <a:xfrm>
            <a:off x="7010280" y="1676520"/>
            <a:ext cx="1220760" cy="16761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066680" y="763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eviene ulteriori sensibilizz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236520"/>
            <a:ext cx="5791320" cy="2800440"/>
          </a:xfrm>
          <a:prstGeom prst="rect">
            <a:avLst/>
          </a:prstGeom>
          <a:solidFill>
            <a:srgbClr val="efe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ekton"/>
              </a:rPr>
              <a:t>Pollen ITS reduces the development of asth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ekton"/>
              </a:rPr>
              <a:t>in children with seasonal rhinoconjunctivit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ekton"/>
              </a:rPr>
              <a:t>(the PAT stud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ekton"/>
              </a:rPr>
              <a:t>Moller C,Dreborg S, et 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ekton"/>
              </a:rPr>
              <a:t>J Allergy Clin Immunol 2002 F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ekton"/>
              </a:rPr>
              <a:t>Studio su bambini con rinite allergica a Graminacee o Betulla per valutare l’effetto preventivo della ITS nei confronti dell’ a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ekton"/>
              </a:rPr>
              <a:t>Risultati dopo 3-5 anni di 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121317003" descr=""/>
          <p:cNvPicPr/>
          <p:nvPr/>
        </p:nvPicPr>
        <p:blipFill>
          <a:blip r:embed="rId1"/>
          <a:stretch/>
        </p:blipFill>
        <p:spPr>
          <a:xfrm>
            <a:off x="4114800" y="3643200"/>
            <a:ext cx="4343400" cy="3062520"/>
          </a:xfrm>
          <a:prstGeom prst="rect">
            <a:avLst/>
          </a:prstGeom>
          <a:ln w="0">
            <a:noFill/>
          </a:ln>
        </p:spPr>
      </p:pic>
      <p:pic>
        <p:nvPicPr>
          <p:cNvPr id="193" name="121317002" descr=""/>
          <p:cNvPicPr/>
          <p:nvPr/>
        </p:nvPicPr>
        <p:blipFill>
          <a:blip r:embed="rId2"/>
          <a:stretch/>
        </p:blipFill>
        <p:spPr>
          <a:xfrm>
            <a:off x="533520" y="3094200"/>
            <a:ext cx="2786040" cy="3535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648320" y="846000"/>
            <a:ext cx="1295280" cy="99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95" name="jaci" descr=""/>
          <p:cNvPicPr/>
          <p:nvPr/>
        </p:nvPicPr>
        <p:blipFill>
          <a:blip r:embed="rId4"/>
          <a:stretch/>
        </p:blipFill>
        <p:spPr>
          <a:xfrm>
            <a:off x="6745320" y="228600"/>
            <a:ext cx="20937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629440" y="1219320"/>
            <a:ext cx="370728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QUALE TERAP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26760" y="2514600"/>
            <a:ext cx="138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</a:rPr>
              <a:t>SC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4400" y="2438280"/>
            <a:ext cx="134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</a:rPr>
              <a:t>SL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3124080"/>
            <a:ext cx="685800" cy="1752840"/>
          </a:xfrm>
          <a:custGeom>
            <a:avLst/>
            <a:gdLst>
              <a:gd name="textAreaLeft" fmla="*/ 438120 w 685800"/>
              <a:gd name="textAreaRight" fmla="*/ 686160 w 6858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3048120"/>
            <a:ext cx="609480" cy="1828800"/>
          </a:xfrm>
          <a:custGeom>
            <a:avLst/>
            <a:gdLst>
              <a:gd name="textAreaLeft" fmla="*/ 0 w 609480"/>
              <a:gd name="textAreaRight" fmla="*/ 219960 w 6094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3429000"/>
            <a:ext cx="2590560" cy="1310760"/>
          </a:xfrm>
          <a:prstGeom prst="rect">
            <a:avLst/>
          </a:prstGeom>
          <a:solidFill>
            <a:srgbClr val="efeffb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FFICACIA +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MMUNOFLOGOSI +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ARCIA ALLERGICA +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ICUREZZA ++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PLIANCE +-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3352680"/>
            <a:ext cx="2589120" cy="1310760"/>
          </a:xfrm>
          <a:prstGeom prst="rect">
            <a:avLst/>
          </a:prstGeom>
          <a:solidFill>
            <a:srgbClr val="efeffb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FFICACIA +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MMUNOFLOGOSI ++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ARCIA ALLERGICA ++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ICUREZZA +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PLIANCE +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73120" y="5511960"/>
            <a:ext cx="573120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LIT is a safe treatmnent ………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.Durham et al in “ SLIT for allergic rhinitis”  Cochrane Library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581280" y="3200400"/>
            <a:ext cx="2090880" cy="15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ahoma"/>
              </a:rPr>
              <a:t>CONCLUSI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267080"/>
          </a:xfrm>
          <a:prstGeom prst="rect">
            <a:avLst/>
          </a:prstGeom>
          <a:solidFill>
            <a:srgbClr val="efeff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IMMUNOTERAPIA SPECIFICA E’ EFFICACE NELL’ASMA DI NATURA ALLERGICA IN ETA’ PEDIA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IMMUNOTERAPIA SPECIFICA E’ IN GRADO DI INTERFERIRE CON LA IMMUNOFLOGOSI ALLER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IMMUNOTERAPIA SPECIFICA E’ EFFICACE DOPO LA SOSPEN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IMMUNOTERAPIA E’ IN GRADO DI INTERFERIRE CON LA STORIA NATURALE DELLA MALATTIA ALLER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30T18:37:55Z</dcterms:created>
  <dc:creator>Suzanne S. Hurd</dc:creator>
  <dc:description/>
  <dc:language>en-US</dc:language>
  <cp:lastModifiedBy>luca</cp:lastModifiedBy>
  <dcterms:modified xsi:type="dcterms:W3CDTF">2004-03-08T23:08:55Z</dcterms:modified>
  <cp:revision>71</cp:revision>
  <dc:subject/>
  <dc:title>PowerPoint Presentation</dc:title>
</cp:coreProperties>
</file>